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BE6-88B2-4B5C-A45D-EB680B0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20F-D6F3-40D2-8C09-DEEF891C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FD7-9362-4FF9-8255-509311A1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FEE-1F92-408B-81B8-EC378E2D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847-9568-4BEB-8869-43441360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364-B3DE-423C-8B16-17955D38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B5E-9294-46B4-A4C0-01BCA92E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2AA1-893A-46C0-B250-D9FBB809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81-87D3-4367-B348-9C0E0F13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236-D2EF-4EFB-9580-5A997B31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938-C691-4490-95AA-2262489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9AF-DFF6-48B9-BC87-9D937962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23DC-6620-4228-812F-E4228A14A9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Characterisation and v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haracteris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31640" y="16002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riter’s skill in creating characters in poetry or p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ed person in a poem, play or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le or character adopted by a poet or aut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jor character who drives the action forward in a poem, drama or no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irst-person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d-person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84328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tinctive tone or style of a poem or poet; views or perspective of one character in a poem, play or no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racter telling the story from their personal standpoint, using first-person pronouns ‘I’, ‘me’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t/author telling the story, using third-person pronouns ‘he’, ‘she’, ‘it’, ‘they’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4:37:10Z</dcterms:modified>
  <cp:revision>73</cp:revision>
  <dc:subject/>
  <dc:title>La Belle Dame Sans Merci</dc:title>
</cp:coreProperties>
</file>